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9E1AD-3A57-4B9C-BB73-B621538FA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55B12-FE71-4709-9FAA-F2187A007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3D25F-294C-4B54-BD24-CE482C9BF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34CC9-BE78-4953-A819-5EE773C4E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7DA-0762-485F-9EE8-1CABD115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01A-FC70-4A95-97C8-0A15412B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DBB-39BF-430D-A0BA-131F98EF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291-F063-4187-AF01-870BD003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59F-2DC2-4591-95D5-9F700191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5CE-4E11-4FD2-AEFD-0FF0596A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360-E706-447C-BAA7-C561030F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B3A-C08E-4C3A-828F-3644446A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4A6-1108-45B5-907B-7E40A37F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14F-368C-44B5-986F-C5FB59A6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48C-92B4-48C3-8742-549837D1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817-7A4F-4C09-8D52-9D5B011A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BD8BF-DE47-431F-95A5-BE2153BC3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1138A-BACE-4346-B1DD-00ECEA94F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66E99-21C3-4E56-B037-EAD97845C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9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nuary 29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65556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219, Resolution of Alignment Items A33, A92, A106, and A150 - TSPs Must Submit Outages for Resource Owned Equipment and Clarification of Changes in Status of Transmission Element P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41, Season Definition Change for Switchable Resources Reporting Unavailable Capacity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60, Remove CRR State Change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69, Maintaining Frequency Responsiveness from Generation Resources Providing RR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783, Outage Scheduler Enhancements – Group 2, Usability and Filtering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Withdra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25, Clarification of Non-Spin Requirements and Operational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03200" y="65556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y Options for NPRR6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44520" y="808200"/>
            <a:ext cx="84931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1/15/15, PRS discussed delivery options for NPRR626 and unanimously endorsed Option 3 – Phased approac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3 – Phas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1 – 626/665/568ph2/644/645/598/OBD – Late June – most likely 6/27-6/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2 – NPRR595 – Mid-September – most likely 9/12-9/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5-01-19T14:45:07Z</dcterms:modified>
  <cp:revision>24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